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3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F68DC-55D9-4BE9-9B8C-97B89F3191A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l 44% de nuestras exportaciones a EE.UU. son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E.UU. absorbe el 40% de nuestras exportaciones de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Cabe destacar que la pobreza se redujo del 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8% de la población en 1992 al 26% en el 2000. El ajuste ante la Crisis del Tequila también fue rápido en términos de pobreza: de 43% en 1995 se pasó a 35% en 1996 (tan solo en un añ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Como se puede ver, a partir de 1994 el desempleo ha presentado una tendencia decrecient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Este se ajustó rápidamente tras la Crisis del Tequila y luego de 1998, llegó a los niveles más bajos desde 1987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El NAFTA también permitió un rápido ajuste de los salarios reales tras dicha crisi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Mayores salarios en el sector exportador y también en el que compite con las importacion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pertura Comercial: promover competitivid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Reducción significativa de aranceles y demás restricci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Trato no discriminatorio con empresas internacionales: atraer invers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 los 90 la inversión dio un salto, pero desde 1998 ha descendido, manteniéndose estable en los últimos añ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Necesitamos mayores niveles de inversión si queremos crecer a un ritmo de 7%, por ejemp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l TLC abre las puertas a la inversión directa extranj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1413-5A6D-437F-BDDC-7F3A53895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235A-5E3D-4ECF-A2CA-072316510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1CFF-C87C-40CE-9775-E32BBBE62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D475-E49B-47BC-BD64-6B2C54604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380BE-3EF3-49EB-B5FD-B8CAEA9AC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DEB78-FE0F-44BB-BD7E-D23364AE7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0D6EF-9ABF-449E-8F7B-8615F34E2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74B87-79E1-4FF5-9F84-6B70C5A38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2CE3F-43FB-4A41-9BC0-41C370A33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8F049-F627-45E5-936F-3AE1E0630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A49A8-B7E5-422E-9199-B4AFA4B6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A7E9-61B3-4AD9-B96E-348C0CA46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F62AF-2F40-4ACF-9F5B-0A48DC10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2E0C5-C373-42F3-BB97-53018FB8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A4DFE-5265-4776-B9EB-E09EB4696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88347-B286-493A-9795-F350DCD36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9A59E-02B8-4E52-A98C-33DAC0341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9112-2D79-4524-97E7-1DDE2A338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1DB2-EA53-42AE-8252-E82AEBEE3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C70D-B486-4E7E-BEE6-74C8574B5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E8DC-23EA-4EED-8A5B-46D83E188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9818-90CC-4AA2-8F3B-7DEE85B6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D8DE-4685-47BD-A44E-41E513EE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2F0A-A8FF-4CC7-82A1-D4F30C99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88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82424"/>
                </a:gs>
                <a:gs pos="100000">
                  <a:srgbClr val="d40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7ECBB-80C4-4878-B1C4-D8D2804AC05F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50000">
                  <a:srgbClr val="fffff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d400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79C55-AF02-48AC-9973-56FC2C651316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erdo Multilateral: OMC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58" dur="5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62" dur="500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500"/>
                            </p:stCondLst>
                            <p:childTnLst>
                              <p:par>
                                <p:cTn id="46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66" dur="500"/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SISTEMA COMERCIO INTER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GATT (1947) tuvo carácter provisional, solamente trataba reglas sobre reducción de aranceles de import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area reducción de aranceles de importación de productos industriales (excluido comercio agrícola y texti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ecanismos de negociación Ron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1994 se crea la Organización Mundial de Comercio OM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rincipio básico no discriminació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aci</a:t>
            </a: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ón Más Favoreci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000"/>
                            </p:stCondLst>
                            <p:childTnLst>
                              <p:par>
                                <p:cTn id="4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500"/>
                            </p:stCondLst>
                            <p:childTnLst>
                              <p:par>
                                <p:cTn id="4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3000"/>
                            </p:stCondLst>
                            <p:childTnLst>
                              <p:par>
                                <p:cTn id="5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3500"/>
                            </p:stCondLst>
                            <p:childTnLst>
                              <p:par>
                                <p:cTn id="5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RESULTADOS DEL GATT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1835280" y="1666800"/>
            <a:ext cx="572112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PAISES MIEMBROS DE LA 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971640" y="1906560"/>
            <a:ext cx="79167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9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3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44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000"/>
                            </p:stCondLst>
                            <p:childTnLst>
                              <p:par>
                                <p:cTn id="54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48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5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52" dur="500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mpetitive liberalization: negociar bilateralmente para impulsar negociaciones en OM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frentar oposición en ALCA Brasil - Mercos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sideraciones geopolít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etróle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rrorism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rog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INTERESES ESTRÁTEGICOS D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450"/>
                            </p:stCondLst>
                            <p:childTnLst>
                              <p:par>
                                <p:cTn id="569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2250"/>
                            </p:stCondLst>
                            <p:childTnLst>
                              <p:par>
                                <p:cTn id="577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800"/>
                            </p:stCondLst>
                            <p:childTnLst>
                              <p:par>
                                <p:cTn id="585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3300"/>
                            </p:stCondLst>
                            <p:childTnLst>
                              <p:par>
                                <p:cTn id="593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3850"/>
                            </p:stCondLst>
                            <p:childTnLst>
                              <p:par>
                                <p:cTn id="601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826920" y="5554800"/>
            <a:ext cx="472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iberalización comercial a través de reducciones arancelarias (solamente medidas en fronter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 rot="2163000">
            <a:off x="3362040" y="4725720"/>
            <a:ext cx="30099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cxnSp>
        <p:nvCxnSpPr>
          <p:cNvPr id="456" name=""/>
          <p:cNvCxnSpPr/>
          <p:nvPr/>
        </p:nvCxnSpPr>
        <p:spPr>
          <a:xfrm rot="10800000">
            <a:off x="4500000" y="3067920"/>
            <a:ext cx="1800720" cy="168012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38160">
            <a:solidFill>
              <a:srgbClr val="ffffff"/>
            </a:solidFill>
            <a:prstDash val="dash"/>
            <a:miter/>
          </a:ln>
        </p:spPr>
      </p:cxn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 DE LIBRE COMERCIO TRADICION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3"/>
          <a:stretch/>
        </p:blipFill>
        <p:spPr>
          <a:xfrm>
            <a:off x="6567480" y="2995560"/>
            <a:ext cx="232560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0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500"/>
                            </p:stCondLst>
                            <p:childTnLst>
                              <p:par>
                                <p:cTn id="6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000"/>
                            </p:stCondLst>
                            <p:childTnLst>
                              <p:par>
                                <p:cTn id="6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500"/>
                            </p:stCondLst>
                            <p:childTnLst>
                              <p:par>
                                <p:cTn id="6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000"/>
                            </p:stCondLst>
                            <p:childTnLst>
                              <p:par>
                                <p:cTn id="6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2500"/>
                            </p:stCondLst>
                            <p:childTnLst>
                              <p:par>
                                <p:cTn id="6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3000"/>
                            </p:stCondLst>
                            <p:childTnLst>
                              <p:par>
                                <p:cTn id="63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6443640" y="2421000"/>
            <a:ext cx="2592360" cy="367344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S DE LIBRE COMERCIO ULTIMA GENERACIÓN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108000" y="1824120"/>
            <a:ext cx="4824360" cy="297324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1835280" y="1714680"/>
            <a:ext cx="116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258920" y="476100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851360" y="1916280"/>
            <a:ext cx="152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4920" y="1628640"/>
            <a:ext cx="1800360" cy="30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Otros tem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eten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Trabaj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 Comme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Facilitación de Comerc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893880" y="558972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tegración más profunda incluye temas de regulación interna de los propios Es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 rot="2081400">
            <a:off x="4211280" y="4437000"/>
            <a:ext cx="309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sp>
        <p:nvSpPr>
          <p:cNvPr id="470" name=""/>
          <p:cNvSpPr/>
          <p:nvPr/>
        </p:nvSpPr>
        <p:spPr>
          <a:xfrm flipH="1" flipV="1">
            <a:off x="1080720" y="2396880"/>
            <a:ext cx="971640" cy="817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2052720" y="2206440"/>
            <a:ext cx="0" cy="1006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2052720" y="2493720"/>
            <a:ext cx="1079280" cy="718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052720" y="3213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1116000" y="3214800"/>
            <a:ext cx="936720" cy="577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052720" y="3213000"/>
            <a:ext cx="936720" cy="720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76" name=""/>
          <p:cNvCxnSpPr/>
          <p:nvPr/>
        </p:nvCxnSpPr>
        <p:spPr>
          <a:xfrm rot="10800000">
            <a:off x="5060160" y="3185280"/>
            <a:ext cx="1527840" cy="146772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cap="sq" w="38160">
            <a:solidFill>
              <a:srgbClr val="ffffff"/>
            </a:solidFill>
            <a:miter/>
          </a:ln>
        </p:spPr>
      </p:cxnSp>
      <p:sp>
        <p:nvSpPr>
          <p:cNvPr id="477" name=""/>
          <p:cNvSpPr/>
          <p:nvPr/>
        </p:nvSpPr>
        <p:spPr>
          <a:xfrm flipH="1" flipV="1">
            <a:off x="6982920" y="3357720"/>
            <a:ext cx="61308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7596360" y="3213000"/>
            <a:ext cx="0" cy="1006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7596360" y="3357720"/>
            <a:ext cx="50472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596360" y="4221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7308360" y="4221000"/>
            <a:ext cx="289080" cy="50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596360" y="4221000"/>
            <a:ext cx="576000" cy="7923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0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500"/>
                            </p:stCondLst>
                            <p:childTnLst>
                              <p:par>
                                <p:cTn id="64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1000"/>
                            </p:stCondLst>
                            <p:childTnLst>
                              <p:par>
                                <p:cTn id="65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2000"/>
                            </p:stCondLst>
                            <p:childTnLst>
                              <p:par>
                                <p:cTn id="65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6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4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7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0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9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2500"/>
                            </p:stCondLst>
                            <p:childTnLst>
                              <p:par>
                                <p:cTn id="69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3400"/>
                            </p:stCondLst>
                            <p:childTnLst>
                              <p:par>
                                <p:cTn id="70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3900"/>
                            </p:stCondLst>
                            <p:childTnLst>
                              <p:par>
                                <p:cTn id="71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4900"/>
                            </p:stCondLst>
                            <p:childTnLst>
                              <p:par>
                                <p:cTn id="7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3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6900"/>
                            </p:stCondLst>
                            <p:childTnLst>
                              <p:par>
                                <p:cTn id="7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324000" y="364500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COMERCIO BIE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974120" y="2222640"/>
            <a:ext cx="21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eglas de ori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757840" y="2960640"/>
            <a:ext cx="320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dministración Aduan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757840" y="4292640"/>
            <a:ext cx="26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das sanitarias y fitosanitar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3348000" y="1699920"/>
            <a:ext cx="9367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317840" y="1522440"/>
            <a:ext cx="23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cceso al merc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038560" y="5121360"/>
            <a:ext cx="349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Obstáculos técnicos al comer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3564000" y="2418840"/>
            <a:ext cx="143964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3745080" y="3139560"/>
            <a:ext cx="1979280" cy="600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745080" y="3943440"/>
            <a:ext cx="1979280" cy="601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565440" y="4124160"/>
            <a:ext cx="1438200" cy="1221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348000" y="4232160"/>
            <a:ext cx="9349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317840" y="5840280"/>
            <a:ext cx="202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fensa comer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 con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0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500"/>
                            </p:stCondLst>
                            <p:childTnLst>
                              <p:par>
                                <p:cTn id="73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650"/>
                            </p:stCondLst>
                            <p:childTnLst>
                              <p:par>
                                <p:cTn id="74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2850"/>
                            </p:stCondLst>
                            <p:childTnLst>
                              <p:par>
                                <p:cTn id="75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61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7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5550"/>
                            </p:stCondLst>
                            <p:childTnLst>
                              <p:par>
                                <p:cTn id="78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5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6050"/>
                            </p:stCondLst>
                            <p:childTnLst>
                              <p:par>
                                <p:cTn id="79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4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9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6550"/>
                            </p:stCondLst>
                            <p:childTnLst>
                              <p:par>
                                <p:cTn id="80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3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395280" y="3608280"/>
            <a:ext cx="16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NUEVOS TE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2158920" y="225108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778200" y="1989000"/>
            <a:ext cx="45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transfronterizo de 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498920" y="288936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lecomunic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218200" y="3789360"/>
            <a:ext cx="273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electrón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857840" y="423864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olítica de Compet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2158920" y="13777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059280" y="1089000"/>
            <a:ext cx="33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419640" y="15397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138560" y="24382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 financie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857840" y="3338640"/>
            <a:ext cx="428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ntrada temporal personas nego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497480" y="4687920"/>
            <a:ext cx="417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rechos de 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138560" y="513864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bo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778200" y="558792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2158920" y="267300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2158920" y="3105000"/>
            <a:ext cx="215892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417840" y="6037200"/>
            <a:ext cx="20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ranspar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057480" y="6488280"/>
            <a:ext cx="32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olución de controvers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158920" y="396864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158920" y="4040280"/>
            <a:ext cx="25210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158920" y="4113360"/>
            <a:ext cx="215892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158920" y="418464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158920" y="425592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432900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158920" y="44719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2158920" y="3536640"/>
            <a:ext cx="25192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2158920" y="180936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 con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0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500"/>
                            </p:stCondLst>
                            <p:childTnLst>
                              <p:par>
                                <p:cTn id="81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1500"/>
                            </p:stCondLst>
                            <p:childTnLst>
                              <p:par>
                                <p:cTn id="825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2050"/>
                            </p:stCondLst>
                            <p:childTnLst>
                              <p:par>
                                <p:cTn id="837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2550"/>
                            </p:stCondLst>
                            <p:childTnLst>
                              <p:par>
                                <p:cTn id="849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3200"/>
                            </p:stCondLst>
                            <p:childTnLst>
                              <p:par>
                                <p:cTn id="861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3750"/>
                            </p:stCondLst>
                            <p:childTnLst>
                              <p:par>
                                <p:cTn id="873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4250"/>
                            </p:stCondLst>
                            <p:childTnLst>
                              <p:par>
                                <p:cTn id="885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4900"/>
                            </p:stCondLst>
                            <p:childTnLst>
                              <p:par>
                                <p:cTn id="897" nodeType="afterEffect" fill="hold" presetClass="entr" presetID="2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5450"/>
                            </p:stCondLst>
                            <p:childTnLst>
                              <p:par>
                                <p:cTn id="90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1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6050"/>
                            </p:stCondLst>
                            <p:childTnLst>
                              <p:par>
                                <p:cTn id="91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2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6700"/>
                            </p:stCondLst>
                            <p:childTnLst>
                              <p:par>
                                <p:cTn id="92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3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7200"/>
                            </p:stCondLst>
                            <p:childTnLst>
                              <p:par>
                                <p:cTn id="93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7750"/>
                            </p:stCondLst>
                            <p:childTnLst>
                              <p:par>
                                <p:cTn id="94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5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8250"/>
                            </p:stCondLst>
                            <p:childTnLst>
                              <p:par>
                                <p:cTn id="95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12920" y="2421000"/>
            <a:ext cx="83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TALLER DE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INTEGRACIÓN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COMERCI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0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5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ortaciones a EE.UU.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27" name=""/>
          <p:cNvSpPr/>
          <p:nvPr/>
        </p:nvSpPr>
        <p:spPr>
          <a:xfrm>
            <a:off x="7024320" y="2690640"/>
            <a:ext cx="35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EE.UU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682400" y="269064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Tota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8295480" y="2690640"/>
            <a:ext cx="639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art. EE.UU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8516160" y="2870280"/>
            <a:ext cx="16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%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805000" y="3036960"/>
            <a:ext cx="290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Tota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996240" y="303696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,348.0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633080" y="303696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8,806.2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8454240" y="30369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6.6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804640" y="3203640"/>
            <a:ext cx="70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Tradicional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996240" y="32036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,321.6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633080" y="32036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,199.9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8454240" y="32036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1.3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788080" y="3370320"/>
            <a:ext cx="43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iner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094520" y="33703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993.3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7633080" y="337032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,512.6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8454240" y="33703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2.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795280" y="3537000"/>
            <a:ext cx="56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esquer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227360" y="353700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.4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731000" y="353700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818.7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8484480" y="353700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0.4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822280" y="3703680"/>
            <a:ext cx="109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etróleo y derivad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094520" y="37036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54.2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731000" y="37036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55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8454240" y="37036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8.8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797800" y="3870360"/>
            <a:ext cx="491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Agrícol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7160400" y="3870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70.6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7731000" y="387036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13.3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8454240" y="3870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3.1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800680" y="4037040"/>
            <a:ext cx="744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anufactur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996240" y="40370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,026.3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633080" y="40370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,606.3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8454240" y="40370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9.3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798880" y="4203720"/>
            <a:ext cx="727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Agropecuari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094520" y="42037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98.2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7731000" y="42037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16.1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8454240" y="42037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2.1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796000" y="437040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Texti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094520" y="437040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515.9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731000" y="437040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817.2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8454240" y="437040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3.1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793120" y="4537080"/>
            <a:ext cx="508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esquer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7160400" y="45370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3.6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7731000" y="45370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08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8454240" y="45370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0.9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792040" y="4703760"/>
            <a:ext cx="44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Quím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160400" y="47037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2.3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731000" y="470376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12.5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8454240" y="47037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3.5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810040" y="4870440"/>
            <a:ext cx="8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etal-mecán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7160400" y="48704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4.7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797240" y="48704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96.2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8454240" y="48704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5.7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792760" y="5035680"/>
            <a:ext cx="1023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Sidero-metalúrg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7160400" y="50356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8.8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7731000" y="50356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90.9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8454240" y="50356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5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816880" y="5202360"/>
            <a:ext cx="1059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inería no metálic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7160400" y="5202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0.2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7797240" y="5202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72.2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8454240" y="5202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55.6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803920" y="5369040"/>
            <a:ext cx="56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Artesaní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227360" y="536904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0.75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863840" y="536904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.2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8454240" y="53690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2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5817240" y="5535720"/>
            <a:ext cx="1003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aderas y papel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7160400" y="55357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2.6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731000" y="55357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71.0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8454240" y="55357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6.6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815800" y="5702400"/>
            <a:ext cx="788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ieles y cuer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7227360" y="570240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7797240" y="570240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5.2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8454240" y="570240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6.4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827680" y="5865840"/>
            <a:ext cx="1009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Varios (inc. Joyería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160400" y="58658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4.7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7797240" y="58658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95.3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8454240" y="58658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7.8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841000" y="6111720"/>
            <a:ext cx="1996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Verdana"/>
              </a:rPr>
              <a:t>Fuente: SUNAT</a:t>
            </a:r>
            <a:r>
              <a:rPr b="0" lang="es-MX" sz="8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27200" y="2514600"/>
            <a:ext cx="2736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articipación de EE.UU. en las Exportaciones (2003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7072920" y="2870280"/>
            <a:ext cx="928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millones de US$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730840" y="2662200"/>
            <a:ext cx="3295800" cy="2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858000" y="2838600"/>
            <a:ext cx="2168640" cy="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730840" y="317808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730840" y="317808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730840" y="334476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730840" y="334476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5730840" y="401148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730840" y="401148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730840" y="417816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730840" y="417816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730840" y="6013440"/>
            <a:ext cx="3295800" cy="2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924360" y="2421000"/>
            <a:ext cx="1600200" cy="550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Verdana"/>
              </a:rPr>
              <a:t>El 40% del total de nuestras manufacturas van a EE.UU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755640" y="3191040"/>
            <a:ext cx="4775040" cy="254304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900000" y="5661000"/>
            <a:ext cx="40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"/>
          <p:cNvGrpSpPr/>
          <p:nvPr/>
        </p:nvGrpSpPr>
        <p:grpSpPr>
          <a:xfrm>
            <a:off x="1141920" y="1752480"/>
            <a:ext cx="7323840" cy="4809240"/>
            <a:chOff x="1141920" y="1752480"/>
            <a:chExt cx="7323840" cy="4809240"/>
          </a:xfrm>
        </p:grpSpPr>
        <p:sp>
          <p:nvSpPr>
            <p:cNvPr id="621" name=""/>
            <p:cNvSpPr/>
            <p:nvPr/>
          </p:nvSpPr>
          <p:spPr>
            <a:xfrm>
              <a:off x="1509840" y="4028040"/>
              <a:ext cx="365760" cy="11170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180240" y="3158640"/>
              <a:ext cx="366840" cy="1986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849920" y="3308400"/>
              <a:ext cx="366840" cy="18367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522840" y="3824640"/>
              <a:ext cx="376560" cy="1320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75960" y="2728800"/>
              <a:ext cx="366840" cy="2416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547440" y="2342160"/>
              <a:ext cx="365400" cy="2802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217120" y="2653920"/>
              <a:ext cx="376200" cy="2491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899400" y="2954880"/>
              <a:ext cx="366480" cy="2189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48572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401120" y="514512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401120" y="459648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401120" y="404928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401120" y="3502440"/>
              <a:ext cx="53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401120" y="2944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401120" y="2395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401120" y="184680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455120" y="5145120"/>
              <a:ext cx="66945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>
              <a:off x="14551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V="1">
              <a:off x="229680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V="1">
              <a:off x="31262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396648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47977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563796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646740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73184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814968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14968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094240" y="514512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094240" y="47800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094240" y="44146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094240" y="40492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094240" y="3684240"/>
              <a:ext cx="98280" cy="2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094240" y="330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094240" y="29444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094240" y="258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8094240" y="22136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8094240" y="1846800"/>
              <a:ext cx="9828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75960" y="2031840"/>
              <a:ext cx="5854320" cy="2705040"/>
            </a:xfrm>
            <a:custGeom>
              <a:avLst/>
              <a:gdLst/>
              <a:ahLst/>
              <a:rect l="l" t="t" r="r" b="b"/>
              <a:pathLst>
                <a:path w="543" h="252">
                  <a:moveTo>
                    <a:pt x="0" y="0"/>
                  </a:moveTo>
                  <a:lnTo>
                    <a:pt x="77" y="237"/>
                  </a:lnTo>
                  <a:lnTo>
                    <a:pt x="155" y="252"/>
                  </a:lnTo>
                  <a:lnTo>
                    <a:pt x="232" y="205"/>
                  </a:lnTo>
                  <a:lnTo>
                    <a:pt x="310" y="197"/>
                  </a:lnTo>
                  <a:lnTo>
                    <a:pt x="387" y="149"/>
                  </a:lnTo>
                  <a:lnTo>
                    <a:pt x="466" y="86"/>
                  </a:lnTo>
                  <a:lnTo>
                    <a:pt x="543" y="32"/>
                  </a:lnTo>
                </a:path>
              </a:pathLst>
            </a:custGeom>
            <a:noFill/>
            <a:ln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811520" y="1966320"/>
              <a:ext cx="12888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640960" y="4512600"/>
              <a:ext cx="130320" cy="126720"/>
            </a:xfrm>
            <a:custGeom>
              <a:avLst/>
              <a:gdLst/>
              <a:ahLst/>
              <a:rect l="l" t="t" r="r" b="b"/>
              <a:pathLst>
                <a:path w="73" h="72">
                  <a:moveTo>
                    <a:pt x="36" y="0"/>
                  </a:moveTo>
                  <a:lnTo>
                    <a:pt x="73" y="36"/>
                  </a:lnTo>
                  <a:lnTo>
                    <a:pt x="36" y="72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481200" y="4673160"/>
              <a:ext cx="128880" cy="12960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6"/>
                  </a:lnTo>
                  <a:lnTo>
                    <a:pt x="37" y="73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312440" y="4167000"/>
              <a:ext cx="128880" cy="1299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52680" y="4082760"/>
              <a:ext cx="130320" cy="1285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6"/>
                  </a:lnTo>
                  <a:lnTo>
                    <a:pt x="36" y="73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983560" y="3566520"/>
              <a:ext cx="12924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7"/>
                  </a:lnTo>
                  <a:lnTo>
                    <a:pt x="36" y="73"/>
                  </a:lnTo>
                  <a:lnTo>
                    <a:pt x="0" y="37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834600" y="2890800"/>
              <a:ext cx="11844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664400" y="2311560"/>
              <a:ext cx="11952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237680" y="5047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141920" y="4500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14192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141920" y="3405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14192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141920" y="22978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14192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rot="16200000">
              <a:off x="1668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 rot="16200000">
              <a:off x="249804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16200000">
              <a:off x="33523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rot="16200000">
              <a:off x="4183560" y="53100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7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rot="16200000">
              <a:off x="5022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rot="16200000">
              <a:off x="5850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9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rot="16200000">
              <a:off x="6690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rot="16200000">
              <a:off x="75247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267040" y="50475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267040" y="467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267040" y="43077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826704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8267040" y="3577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8267040" y="3213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826704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267040" y="24829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267040" y="21157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26704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997360" y="5929200"/>
              <a:ext cx="366840" cy="1069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387600" y="5865120"/>
              <a:ext cx="3181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Línea 1 - SEDESO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997360" y="6166440"/>
              <a:ext cx="366840" cy="117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91920" y="6102360"/>
              <a:ext cx="2158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CEP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997360" y="6444720"/>
              <a:ext cx="354960" cy="25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126240" y="6401880"/>
              <a:ext cx="96840" cy="9612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0" y="0"/>
                  </a:moveTo>
                  <a:lnTo>
                    <a:pt x="54" y="25"/>
                  </a:lnTo>
                  <a:lnTo>
                    <a:pt x="30" y="55"/>
                  </a:lnTo>
                  <a:lnTo>
                    <a:pt x="0" y="25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384360" y="6348240"/>
              <a:ext cx="336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alarios reales en dólares (eje derecho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9" name=""/>
          <p:cNvSpPr/>
          <p:nvPr/>
        </p:nvSpPr>
        <p:spPr>
          <a:xfrm>
            <a:off x="2133720" y="1460520"/>
            <a:ext cx="518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asa de pobreza y salarios reales en México 1994 - 2001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en porcentajes y dólar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327320" y="623880"/>
            <a:ext cx="6970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eriencia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2" name=""/>
          <p:cNvSpPr/>
          <p:nvPr/>
        </p:nvSpPr>
        <p:spPr>
          <a:xfrm>
            <a:off x="2220840" y="3103560"/>
            <a:ext cx="1800" cy="1736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163600" y="4840200"/>
            <a:ext cx="1130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163600" y="459756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2163600" y="4336920"/>
            <a:ext cx="1130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2163600" y="409428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2163600" y="385128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2163600" y="3608280"/>
            <a:ext cx="1130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2163600" y="334656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2163600" y="310356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220840" y="4840200"/>
            <a:ext cx="59929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2220840" y="4784400"/>
            <a:ext cx="180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97036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371952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446724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5216400" y="4784400"/>
            <a:ext cx="180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596592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6715080" y="4784400"/>
            <a:ext cx="180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746460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821376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2595600" y="3309840"/>
            <a:ext cx="5243400" cy="989280"/>
          </a:xfrm>
          <a:custGeom>
            <a:avLst/>
            <a:gdLst/>
            <a:ahLst/>
            <a:rect l="l" t="t" r="r" b="b"/>
            <a:pathLst>
              <a:path w="280" h="53">
                <a:moveTo>
                  <a:pt x="0" y="0"/>
                </a:moveTo>
                <a:lnTo>
                  <a:pt x="40" y="9"/>
                </a:lnTo>
                <a:lnTo>
                  <a:pt x="80" y="33"/>
                </a:lnTo>
                <a:lnTo>
                  <a:pt x="120" y="39"/>
                </a:lnTo>
                <a:lnTo>
                  <a:pt x="160" y="49"/>
                </a:lnTo>
                <a:lnTo>
                  <a:pt x="200" y="53"/>
                </a:lnTo>
                <a:lnTo>
                  <a:pt x="240" y="50"/>
                </a:lnTo>
                <a:lnTo>
                  <a:pt x="280" y="46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538360" y="3252960"/>
            <a:ext cx="11268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287880" y="3421080"/>
            <a:ext cx="11268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4037040" y="3868560"/>
            <a:ext cx="112680" cy="1130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786200" y="3981600"/>
            <a:ext cx="11268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535720" y="4168800"/>
            <a:ext cx="112680" cy="1112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6284880" y="4243320"/>
            <a:ext cx="111240" cy="1112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7032600" y="4186080"/>
            <a:ext cx="112680" cy="1130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7781760" y="4111560"/>
            <a:ext cx="11304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147560" y="2617920"/>
            <a:ext cx="2195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Tasa de Desempl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7808040" y="366408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7152480" y="373860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515640" y="381312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5766480" y="379404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110920" y="360828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3.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361400" y="353376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3.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713680" y="289872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6.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688560" y="319716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5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1824120" y="4710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824120" y="4467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1824120" y="420516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1824120" y="396252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824120" y="371952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824120" y="347652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824120" y="3216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6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824120" y="2973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45700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320652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395424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470340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45256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20208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95124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00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70076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00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631880" y="5470560"/>
            <a:ext cx="6674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Verdana"/>
              </a:rPr>
              <a:t>Fuente: Instituto Nacional de Estadística, Geografía e Informática de Méxic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757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391520" cy="4452840"/>
          </a:xfrm>
          <a:prstGeom prst="rect">
            <a:avLst/>
          </a:prstGeom>
          <a:ln w="0">
            <a:noFill/>
          </a:ln>
        </p:spPr>
      </p:pic>
      <p:sp>
        <p:nvSpPr>
          <p:cNvPr id="758" name=""/>
          <p:cNvSpPr/>
          <p:nvPr/>
        </p:nvSpPr>
        <p:spPr>
          <a:xfrm>
            <a:off x="1905120" y="6400800"/>
            <a:ext cx="723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Fuente: U.S. Census Bureau, Foreign Trade Division; Statistics Canada; </a:t>
            </a: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Secretaría de Economía de Méx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Á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que respetan estándares laborales altos están en desventaja de costos frente a los que tienen estándares más baj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y menos desarrollados tienen diferentes estándares labor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adecuada legislación labo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Falta de cumplimiento de la legislación labora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iferencia de prioridades soci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fill="hold">
                      <p:stCondLst>
                        <p:cond delay="0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82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500"/>
                            </p:stCondLst>
                            <p:childTnLst>
                              <p:par>
                                <p:cTn id="98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6" dur="500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0" dur="500"/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9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4" dur="500"/>
                                        <p:tgtEl>
                                          <p:spTgt spid="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9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8" dur="500"/>
                                        <p:tgtEl>
                                          <p:spTgt spid="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2" dur="500"/>
                                        <p:tgtEl>
                                          <p:spTgt spid="7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Á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speto principios fundamentales OI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asociación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organizarse y negociar colectivament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a prohibición del uso de cualquier forma de trabajo forzoso u obligatorio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una edad mínima para el empleo de niños, y la prohibición y eliminación de las peores formas de trabajo infantil; 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condiciones aceptables de trabajo respecto a salarios mínimos, horas de trabajo y seguridad y salud ocupacion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umplimiento de la legislación laboral como compromis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0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09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7" dur="500"/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1" dur="500"/>
                                        <p:tgtEl>
                                          <p:spTgt spid="7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5" dur="500"/>
                                        <p:tgtEl>
                                          <p:spTgt spid="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9" dur="500"/>
                                        <p:tgtEl>
                                          <p:spTgt spid="7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3" dur="500"/>
                                        <p:tgtEl>
                                          <p:spTgt spid="7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3500"/>
                            </p:stCondLst>
                            <p:childTnLst>
                              <p:par>
                                <p:cTn id="10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7" dur="500"/>
                                        <p:tgtEl>
                                          <p:spTgt spid="7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mercio agrícola y distorsion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Unión Europea, Japón y Estados Unidos principales países que otorgan subsidios a la exportación y ayudas internas a productos agrícol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Foro de solución TLC u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pasaría si EEUU elimina sus ayudas internas a los productos agrícolas en TLC y no se avanza en negociaciones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fill="hold">
                      <p:stCondLst>
                        <p:cond delay="0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44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500"/>
                            </p:stCondLst>
                            <p:childTnLst>
                              <p:par>
                                <p:cTn id="10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7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7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7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7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cantidad de productos agrícolas americanos ingresan a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De dónde importa productos agrícolas e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0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79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500"/>
                            </p:stCondLst>
                            <p:childTnLst>
                              <p:par>
                                <p:cTn id="10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3" dur="500"/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7" dur="500"/>
                                        <p:tgtEl>
                                          <p:spTgt spid="7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lación OMC/TL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incipi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Protección a corto plazo de la propiedad intelectual contribuye  a la innovación técnica y la transferencia de tecnologí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Los conocimientos técnicos deben beneficiar tanto a los productores como a los usuarios y acrecentar el bienestar económico y soci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Medicamentos baratos: limitaciones a licencias obligatorias e importaciones paralela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es biopiratería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El Pisco es peruano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0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94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500"/>
                            </p:stCondLst>
                            <p:childTnLst>
                              <p:par>
                                <p:cTn id="109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7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7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7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7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7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7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7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7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fill="hold">
                            <p:stCondLst>
                              <p:cond delay="3500"/>
                            </p:stCondLst>
                            <p:childTnLst>
                              <p:par>
                                <p:cTn id="11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7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7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ilosofía proteccionista: nuestro dinero debe ser gastado en nuestras mercaderías para asegurar nuestro trabaj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970: Presupuestos de los gobiernos aumentaron por salud, educación y pension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ubir impuestos / Reducir cost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stimularon la competencia entre proveedores del Estado en sus licitaciones por compras estatales y permitieron el ingreso de proveedores extranjer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0" dur="indefinite" restart="never" nodeType="tmRoot">
          <p:childTnLst>
            <p:seq>
              <p:cTn id="1131" dur="indefinite" nodeType="mainSeq">
                <p:childTnLst>
                  <p:par>
                    <p:cTn id="1132" fill="hold">
                      <p:stCondLst>
                        <p:cond delay="0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36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13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0" dur="500"/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4" dur="500"/>
                                        <p:tgtEl>
                                          <p:spTgt spid="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8" dur="500"/>
                                        <p:tgtEl>
                                          <p:spTgt spid="7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2" dur="500"/>
                                        <p:tgtEl>
                                          <p:spTgt spid="7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eferencias sectoriales vs. Menor gasto estatal (menores impuestos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rrupción vs. No - discrimin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3" dur="indefinite" restart="never" nodeType="tmRoot">
          <p:childTnLst>
            <p:seq>
              <p:cTn id="1154" dur="indefinite" nodeType="mainSeq">
                <p:childTnLst>
                  <p:par>
                    <p:cTn id="1155" fill="hold">
                      <p:stCondLst>
                        <p:cond delay="0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59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1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3" dur="500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7" dur="500"/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FORMAS Y APERTURA COMERCIAL EN LOS 90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4219200" y="226692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4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19200" y="255420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19200" y="280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7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19200" y="305748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84880" y="4335480"/>
            <a:ext cx="154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Rossini (1991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27360" y="1906560"/>
            <a:ext cx="339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structura de Protección (Julio 1990</a:t>
            </a:r>
            <a:r>
              <a:rPr b="0" lang="es-MX" sz="1400" spc="-1" strike="noStrike">
                <a:solidFill>
                  <a:srgbClr val="ffdde5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4280" y="2266920"/>
            <a:ext cx="263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ponderado aranc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08920" y="2554200"/>
            <a:ext cx="181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onsum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440" y="280656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Insum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1880" y="3057480"/>
            <a:ext cx="159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apit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5760" y="3346560"/>
            <a:ext cx="256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simple arancel (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19200" y="334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6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6320" y="3633840"/>
            <a:ext cx="181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prohib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04080" y="36338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93440" y="3957480"/>
            <a:ext cx="191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restring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04080" y="39574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98560" y="255420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98560" y="363384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98560" y="395748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00720" y="3940200"/>
          <a:ext cx="4581360" cy="28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940200"/>
                    <a:ext cx="458136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5078520" y="350820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volución del Promedio Arancela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53120" y="4641840"/>
            <a:ext cx="2050920" cy="1008000"/>
          </a:xfrm>
          <a:prstGeom prst="line">
            <a:avLst/>
          </a:prstGeom>
          <a:ln w="76320">
            <a:solidFill>
              <a:srgbClr val="ff99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L PROTECCIONISMO ES RECESIV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2881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0 - 198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29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5 - 19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972040" y="2949480"/>
            <a:ext cx="104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0 -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6000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5 -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1880" y="4389480"/>
            <a:ext cx="3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P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46560" y="4389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4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942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404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4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2476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51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32560" y="4786200"/>
            <a:ext cx="129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gropecu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46560" y="478620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942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0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404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4.2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2476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9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9840" y="5181480"/>
            <a:ext cx="72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iner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46560" y="5181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942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7.6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404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02476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5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32560" y="557676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anufactu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346560" y="557676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2.1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942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4404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3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02476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70480" y="6297480"/>
            <a:ext cx="244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INEI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96040" y="2209680"/>
            <a:ext cx="3969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CRECIMIENTO PROMEDIO ANUA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43440" y="2587680"/>
            <a:ext cx="1474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POR SECT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14560" y="323856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14560" y="597384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19960" y="3417840"/>
            <a:ext cx="1703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rancel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(fin de period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46560" y="359892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942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6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404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6.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02476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3.5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03040" y="3994200"/>
            <a:ext cx="21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Dispersión arancela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346560" y="399420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942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404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02476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50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6000"/>
                            </p:stCondLst>
                            <p:childTnLst>
                              <p:par>
                                <p:cTn id="2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946160" y="2027160"/>
            <a:ext cx="6784920" cy="2863800"/>
            <a:chOff x="1946160" y="2027160"/>
            <a:chExt cx="6784920" cy="2863800"/>
          </a:xfrm>
        </p:grpSpPr>
        <p:sp>
          <p:nvSpPr>
            <p:cNvPr id="188" name=""/>
            <p:cNvSpPr/>
            <p:nvPr/>
          </p:nvSpPr>
          <p:spPr>
            <a:xfrm>
              <a:off x="2112840" y="4116240"/>
              <a:ext cx="14400" cy="1065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27240" y="4116240"/>
              <a:ext cx="15840" cy="1065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4308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57480" y="4116240"/>
              <a:ext cx="15840" cy="1065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73320" y="4116240"/>
              <a:ext cx="158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89160" y="4116240"/>
              <a:ext cx="144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03560" y="4116240"/>
              <a:ext cx="29880" cy="1065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33440" y="4116240"/>
              <a:ext cx="162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49640" y="4116240"/>
              <a:ext cx="140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63680" y="4116240"/>
              <a:ext cx="15840" cy="1065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27952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127240" y="41324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9884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612880" y="4208400"/>
              <a:ext cx="1620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29080" y="4208400"/>
              <a:ext cx="140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643120" y="4208400"/>
              <a:ext cx="158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658960" y="4208400"/>
              <a:ext cx="1440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73360" y="4208400"/>
              <a:ext cx="1584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68920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0504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1944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73528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749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612880" y="4222800"/>
              <a:ext cx="18288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68640" y="4222800"/>
              <a:ext cx="15840" cy="460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84480" y="4222800"/>
              <a:ext cx="14400" cy="460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9888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14720" y="4222800"/>
              <a:ext cx="14400" cy="460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2912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44960" y="4222800"/>
              <a:ext cx="140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59000" y="4222800"/>
              <a:ext cx="30240" cy="460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89240" y="4222800"/>
              <a:ext cx="158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0508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220920" y="4222800"/>
              <a:ext cx="14400" cy="460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3532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84480" y="4238640"/>
              <a:ext cx="196920" cy="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54280" y="4222800"/>
              <a:ext cx="14400" cy="106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68680" y="4222800"/>
              <a:ext cx="15840" cy="10620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8452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00360" y="4222800"/>
              <a:ext cx="14400" cy="10620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14760" y="4222800"/>
              <a:ext cx="158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630600" y="4222800"/>
              <a:ext cx="1440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45000" y="4222800"/>
              <a:ext cx="30240" cy="10620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75240" y="4222800"/>
              <a:ext cx="1584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691080" y="4222800"/>
              <a:ext cx="140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05120" y="4222800"/>
              <a:ext cx="15840" cy="10620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2096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568680" y="42386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040280" y="4222800"/>
              <a:ext cx="14040" cy="1666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054320" y="4222800"/>
              <a:ext cx="16200" cy="1666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70520" y="4222800"/>
              <a:ext cx="140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84560" y="4222800"/>
              <a:ext cx="15840" cy="1666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00400" y="4222800"/>
              <a:ext cx="1584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16240" y="4222800"/>
              <a:ext cx="1440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30640" y="4222800"/>
              <a:ext cx="30240" cy="1666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60880" y="4222800"/>
              <a:ext cx="1584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76720" y="4222800"/>
              <a:ext cx="1440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91120" y="4222800"/>
              <a:ext cx="15840" cy="1666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206960" y="4222800"/>
              <a:ext cx="158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054320" y="4238640"/>
              <a:ext cx="19872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25920" y="4222800"/>
              <a:ext cx="14400" cy="349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40320" y="4222800"/>
              <a:ext cx="15840" cy="3492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56160" y="4222800"/>
              <a:ext cx="1440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70560" y="4222800"/>
              <a:ext cx="1584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86400" y="4222800"/>
              <a:ext cx="140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00440" y="4222800"/>
              <a:ext cx="158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16280" y="4222800"/>
              <a:ext cx="16200" cy="3492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32480" y="4222800"/>
              <a:ext cx="140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46520" y="4222800"/>
              <a:ext cx="158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62360" y="4222800"/>
              <a:ext cx="1440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676760" y="4222800"/>
              <a:ext cx="1584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40320" y="4238640"/>
              <a:ext cx="1825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95720" y="4222800"/>
              <a:ext cx="15840" cy="3189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11560" y="4222800"/>
              <a:ext cx="14400" cy="3189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025960" y="4222800"/>
              <a:ext cx="1584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041800" y="4222800"/>
              <a:ext cx="14400" cy="3189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5620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7204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86440" y="4222800"/>
              <a:ext cx="31680" cy="3189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1812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13252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148360" y="4222800"/>
              <a:ext cx="14040" cy="3189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162400" y="4222800"/>
              <a:ext cx="1620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011560" y="4238640"/>
              <a:ext cx="196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81720" y="4222800"/>
              <a:ext cx="14040" cy="257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95760" y="4222800"/>
              <a:ext cx="16200" cy="257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1196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527800" y="4222800"/>
              <a:ext cx="14040" cy="257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4184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557680" y="4222800"/>
              <a:ext cx="1440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572080" y="4222800"/>
              <a:ext cx="30240" cy="257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02320" y="4222800"/>
              <a:ext cx="1584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1816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34000" y="4222800"/>
              <a:ext cx="14400" cy="257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4840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95760" y="4238640"/>
              <a:ext cx="19872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967360" y="4222800"/>
              <a:ext cx="14400" cy="3794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981760" y="4222800"/>
              <a:ext cx="15840" cy="37944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976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1344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02784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43680" y="4222800"/>
              <a:ext cx="1440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58080" y="4222800"/>
              <a:ext cx="15840" cy="3794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73920" y="4222800"/>
              <a:ext cx="1404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8796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10380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182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981760" y="4238640"/>
              <a:ext cx="182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437160" y="4222800"/>
              <a:ext cx="16200" cy="122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53360" y="4222800"/>
              <a:ext cx="140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467400" y="4222800"/>
              <a:ext cx="1584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83240" y="4222800"/>
              <a:ext cx="14400" cy="122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49764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513480" y="4222800"/>
              <a:ext cx="158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529320" y="4222800"/>
              <a:ext cx="30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559560" y="4222800"/>
              <a:ext cx="1440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57396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589800" y="4222800"/>
              <a:ext cx="14040" cy="122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03840" y="4222800"/>
              <a:ext cx="1620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453360" y="4238640"/>
              <a:ext cx="19656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923160" y="4222800"/>
              <a:ext cx="15840" cy="903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939000" y="4222800"/>
              <a:ext cx="14400" cy="903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5340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969240" y="4222800"/>
              <a:ext cx="14040" cy="903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98328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99912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013520" y="4222800"/>
              <a:ext cx="31680" cy="903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04520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5960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075440" y="4222800"/>
              <a:ext cx="14400" cy="903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08984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939000" y="4238640"/>
              <a:ext cx="19692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408800" y="4222800"/>
              <a:ext cx="15840" cy="601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424640" y="4222800"/>
              <a:ext cx="14400" cy="601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43904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454880" y="4222800"/>
              <a:ext cx="14400" cy="601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469280" y="4222800"/>
              <a:ext cx="1584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485120" y="4222800"/>
              <a:ext cx="1440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499520" y="4222800"/>
              <a:ext cx="29880" cy="601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29400" y="4222800"/>
              <a:ext cx="1584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545240" y="4222800"/>
              <a:ext cx="1620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561440" y="4222800"/>
              <a:ext cx="14040" cy="601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57548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424640" y="4238640"/>
              <a:ext cx="196920" cy="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89480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908840" y="4208400"/>
              <a:ext cx="1584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924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94052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95492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97076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98516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00100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01540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031240" y="4208400"/>
              <a:ext cx="140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045280" y="4208400"/>
              <a:ext cx="1620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908840" y="4222800"/>
              <a:ext cx="18252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364600" y="4146480"/>
              <a:ext cx="15840" cy="763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380440" y="4146480"/>
              <a:ext cx="14400" cy="763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39484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410680" y="4146480"/>
              <a:ext cx="14040" cy="763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42472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440560" y="4146480"/>
              <a:ext cx="162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456760" y="4146480"/>
              <a:ext cx="29880" cy="763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486640" y="4146480"/>
              <a:ext cx="144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50104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516880" y="4146480"/>
              <a:ext cx="14400" cy="763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53128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380440" y="4162320"/>
              <a:ext cx="196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990800" y="2617920"/>
              <a:ext cx="1440" cy="2271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46160" y="48895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946160" y="45720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46160" y="42386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946160" y="391968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946160" y="35863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946160" y="32688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946160" y="29354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46160" y="26179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990800" y="4238640"/>
              <a:ext cx="67388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19908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47644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29480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34322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391788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40388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48751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53593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584532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631656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680256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72882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77724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82440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87296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233440" y="2784600"/>
              <a:ext cx="6253200" cy="923760"/>
            </a:xfrm>
            <a:custGeom>
              <a:avLst/>
              <a:gdLst/>
              <a:ahLst/>
              <a:rect l="l" t="t" r="r" b="b"/>
              <a:pathLst>
                <a:path w="412" h="61">
                  <a:moveTo>
                    <a:pt x="0" y="61"/>
                  </a:moveTo>
                  <a:lnTo>
                    <a:pt x="32" y="60"/>
                  </a:lnTo>
                  <a:lnTo>
                    <a:pt x="63" y="58"/>
                  </a:lnTo>
                  <a:lnTo>
                    <a:pt x="95" y="60"/>
                  </a:lnTo>
                  <a:lnTo>
                    <a:pt x="127" y="49"/>
                  </a:lnTo>
                  <a:lnTo>
                    <a:pt x="158" y="38"/>
                  </a:lnTo>
                  <a:lnTo>
                    <a:pt x="190" y="33"/>
                  </a:lnTo>
                  <a:lnTo>
                    <a:pt x="222" y="24"/>
                  </a:lnTo>
                  <a:lnTo>
                    <a:pt x="254" y="35"/>
                  </a:lnTo>
                  <a:lnTo>
                    <a:pt x="285" y="31"/>
                  </a:lnTo>
                  <a:lnTo>
                    <a:pt x="317" y="22"/>
                  </a:lnTo>
                  <a:lnTo>
                    <a:pt x="349" y="22"/>
                  </a:lnTo>
                  <a:lnTo>
                    <a:pt x="380" y="14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33440" y="2874960"/>
              <a:ext cx="6253200" cy="954000"/>
            </a:xfrm>
            <a:custGeom>
              <a:avLst/>
              <a:gdLst/>
              <a:ahLst/>
              <a:rect l="l" t="t" r="r" b="b"/>
              <a:pathLst>
                <a:path w="412" h="63">
                  <a:moveTo>
                    <a:pt x="0" y="63"/>
                  </a:moveTo>
                  <a:lnTo>
                    <a:pt x="32" y="56"/>
                  </a:lnTo>
                  <a:lnTo>
                    <a:pt x="63" y="50"/>
                  </a:lnTo>
                  <a:lnTo>
                    <a:pt x="95" y="47"/>
                  </a:lnTo>
                  <a:lnTo>
                    <a:pt x="127" y="32"/>
                  </a:lnTo>
                  <a:lnTo>
                    <a:pt x="158" y="9"/>
                  </a:lnTo>
                  <a:lnTo>
                    <a:pt x="190" y="7"/>
                  </a:lnTo>
                  <a:lnTo>
                    <a:pt x="222" y="0"/>
                  </a:lnTo>
                  <a:lnTo>
                    <a:pt x="254" y="4"/>
                  </a:lnTo>
                  <a:lnTo>
                    <a:pt x="285" y="18"/>
                  </a:lnTo>
                  <a:lnTo>
                    <a:pt x="317" y="10"/>
                  </a:lnTo>
                  <a:lnTo>
                    <a:pt x="349" y="11"/>
                  </a:lnTo>
                  <a:lnTo>
                    <a:pt x="380" y="9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490920" y="2027160"/>
              <a:ext cx="2718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PERU : INTERNATIONAL TRA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42760" y="2254320"/>
              <a:ext cx="1027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US$ Mill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059560" y="384480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686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545560" y="393552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147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96280" y="4359240"/>
              <a:ext cx="328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(221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3482280" y="44197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7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891960" y="447984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04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33400" y="457200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5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365160" y="443556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850800" y="44053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5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841520" y="39355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13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312760" y="387504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484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317480" y="476892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13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923720" y="479916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92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336800" y="437508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387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941440" y="473868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3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182600" y="478296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4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182600" y="446580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2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592280" y="413244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254600" y="381492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2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254600" y="348156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4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254600" y="316224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6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254600" y="282888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8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139040" y="2511360"/>
            <a:ext cx="520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10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18900000">
            <a:off x="17571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18900000">
            <a:off x="22428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18900000">
            <a:off x="27144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rot="18900000">
            <a:off x="31986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rot="18900000">
            <a:off x="36842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4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18900000">
            <a:off x="41558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5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18900000">
            <a:off x="464148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6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18900000">
            <a:off x="51271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18900000">
            <a:off x="56113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8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rot="18900000">
            <a:off x="60829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18900000">
            <a:off x="6568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18900000">
            <a:off x="7054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18900000">
            <a:off x="7524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8900000">
            <a:off x="8010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92096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028960" y="5614920"/>
            <a:ext cx="179280" cy="90720"/>
          </a:xfrm>
          <a:prstGeom prst="rect">
            <a:avLst/>
          </a:prstGeom>
          <a:solidFill>
            <a:srgbClr val="f6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406960" y="5556240"/>
            <a:ext cx="1338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TRADE BALANC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813200" y="5646600"/>
            <a:ext cx="409680" cy="1800"/>
          </a:xfrm>
          <a:prstGeom prst="line">
            <a:avLst/>
          </a:prstGeom>
          <a:ln w="46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290920" y="555624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EX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983280" y="5646600"/>
            <a:ext cx="409680" cy="1800"/>
          </a:xfrm>
          <a:prstGeom prst="line">
            <a:avLst/>
          </a:prstGeom>
          <a:ln w="46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458120" y="5556240"/>
            <a:ext cx="750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IM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7332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3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45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500"/>
                            </p:stCondLst>
                            <p:childTnLst>
                              <p:par>
                                <p:cTn id="39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45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45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4500"/>
                            </p:stCondLst>
                            <p:childTnLst>
                              <p:par>
                                <p:cTn id="4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30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971640" y="1835280"/>
            <a:ext cx="759276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25092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971640" y="1835280"/>
          <a:ext cx="7592760" cy="428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835280"/>
                    <a:ext cx="759276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 BCRP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43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Comparación entre Chile, Colombia y Perú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4724280" y="1779480"/>
          <a:ext cx="4135680" cy="260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779480"/>
                    <a:ext cx="4135680" cy="26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/>
          <p:cNvSpPr/>
          <p:nvPr/>
        </p:nvSpPr>
        <p:spPr>
          <a:xfrm>
            <a:off x="6781680" y="4365720"/>
            <a:ext cx="2590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Penn World Tabl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Método: Precios constantes en %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987840" y="6338880"/>
            <a:ext cx="2247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CEPAL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3"/>
          <a:stretch/>
        </p:blipFill>
        <p:spPr>
          <a:xfrm>
            <a:off x="762120" y="3649680"/>
            <a:ext cx="464796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6:13:51Z</dcterms:created>
  <dc:creator>jore</dc:creator>
  <dc:description/>
  <dc:language>en-US</dc:language>
  <cp:lastModifiedBy>jore</cp:lastModifiedBy>
  <dcterms:modified xsi:type="dcterms:W3CDTF">2004-08-13T15:23:01Z</dcterms:modified>
  <cp:revision>657</cp:revision>
  <dc:subject/>
  <dc:title>COMEXPERU Presentación Institucion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920418868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web</vt:lpwstr>
  </property>
  <property fmtid="{D5CDD505-2E9C-101B-9397-08002B2CF9AE}" pid="6" name="_PreviousAdHocReviewCycleID">
    <vt:r8>-768413957</vt:r8>
  </property>
</Properties>
</file>